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622-C850-4409-AADA-88951C73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C41-DA9C-470C-B6E9-935A760F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F546-3211-429D-82B5-C4656C20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66A-0196-466B-853C-DF6C075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AD6-5CC8-46BB-946D-0D41DBDF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4F0-4981-41F8-A70B-3B761071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455-4EE2-4100-8A68-503DB243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038-38D9-48BC-AE62-BF5D5294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A47-3CE1-4DCA-BE59-01FD095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3AB-12C2-4EB5-8DCD-A5845D86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F81-9EA9-40B5-B14D-ED501FB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E41-6833-49CB-8124-8CDD7B25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F9F-7507-43EF-BCB9-7776253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A27-5ECF-41CD-9789-2AC35F3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32A-8BC4-4C1D-8806-5C18B228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4A0F-1F9E-499F-9F6D-81B2EA59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ou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20:23Z</dcterms:modified>
  <cp:revision>109</cp:revision>
  <dc:subject/>
  <dc:title>Profile</dc:title>
</cp:coreProperties>
</file>